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C0D1-3578-4111-A2D4-59E9231B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E45F-E55E-40AF-B67E-C5EE0BF5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BD6D8-9327-45F5-A21C-C179B468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6C3E5-691B-42F9-A82F-C78119B4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F724E-8E58-4EB3-A3A9-E4EE649A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F09C6-EE02-4DCF-9331-A57EE9A0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41299-6509-40F9-97A4-9A690982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D353B-103C-495B-AB7F-835D711E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77146-E904-4E2C-8356-1E5AC7DD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145A2-745E-4D7A-AB43-C5E09416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DAE48-46E4-4AA0-995E-177E300B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0E217-65D5-4F16-BA8E-8CFFB1BA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CCA3-3BBE-4A91-A81C-696B3F99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D68E5-3473-4BE0-A204-7CCC4D11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C637E-F34B-4DDB-B7B1-BBE997C7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53FC9-6489-4564-8D5D-6887CE74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452FA-F390-4DF1-B988-35349910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79872-1033-4A21-ACA0-C6A3825C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31578-851C-4874-9A05-4D3AA84D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234B3-1AA6-4764-8637-59D60BE5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6C5B7-FD7B-4259-A8BD-F88C97F6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8DBF4-52F6-4CE7-AAFC-DC0144AF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91EE1-77AA-4CF0-9C80-9AC711E9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1E10-BBF8-4391-91F3-AB46E9BF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19C83-35DF-451A-9ADD-5917072A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7512E-44C5-4AD6-9689-1414838F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B9063-92D3-4C6A-8103-DBF51EF7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75992-63E0-4028-89F3-302C964B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86C12-86B1-463F-8D27-7F8227C8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7EE2D-AC3D-4790-8168-C55A7671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503DA-9EF1-4F1A-A14D-CF18F48D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CCAF6-3F9D-42F5-81FD-7FA658AE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FE9BC-6D2B-4B79-A00C-B41AD35F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8AF2C-6109-415F-BE1C-A7A423A5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6031-8295-465D-978E-E980735D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EAFC4-2209-462B-8726-BEC7FEF0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60F62-24ED-4E61-810E-9CECE870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9C3C3-8FE3-4C26-9B12-B2A43425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B43E0-D5A3-4670-AD1D-88CF681E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BE8899-65FE-4E55-8383-C7CCD40D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669B8-A42C-498C-9B18-1DAFA320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A3914-2CD9-4C10-8C3E-874716B0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6B84C-BBB9-4874-A720-6974DD03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91FE1-E884-407F-A629-1A6EE7F1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55352-4511-4F56-B438-692C0B5D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BC11-2B52-4C9E-A808-83CC4642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4896E-3024-47BF-868B-B2160EA4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277FF-0A4D-4F07-AE33-312568F8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2D4AF-6F47-490D-8C59-56F6F621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F28B6-6378-404E-8812-BEF73AE5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DCCF2-47F4-4DEE-9240-E5EA4F88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1B1C18-5BF4-484F-B03A-03123456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01A4CF-7C9B-40CF-A103-D8149EF4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445444-28CB-4C7D-A2E3-17C39AF2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A7F53-739B-495D-9D2F-E752AB05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FFD03E-B881-4CCE-8476-A9CAAA57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3CE2-02B0-41DC-A139-30ECBB09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A8969B-BF7E-4608-876E-C6179EE0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2C98CA-0967-413C-AC45-AFA22A5A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BDD9D0-06D5-4AEC-8F2C-DB2FB720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DC92D-291E-4BB8-A839-3E5431CE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4C2B54-4397-4BBC-847A-4D208DCD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CCBD7-648E-418B-B3AF-16F6E8C0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72E18C-17EE-4BDE-B502-128BA347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63ABD8-0CDA-4C79-83AB-29727C20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279324-D917-4D07-8BD7-5584B975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A152D8-11C6-4594-B972-09E35FF1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B2FD-83CC-4033-8623-A81963CA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AEF22-876B-4438-B5BA-5E9A69AE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55B800-4349-48FF-887D-003514A6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64C0A0-86C3-4455-8FBD-ABFAB5F4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5B7DD8-0DF5-44BE-B2B8-56821D4A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59AFD5-42DB-49EE-B1F6-F24A6948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8AE4BB-404C-44A0-9F4B-8D327886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8B5899-9F4A-42B3-A0BD-6FA85F1E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7D9440-EC6F-4970-B6F8-FAB29BEC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F8B8B4-DFE9-41E6-AE3E-DAFEAD56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7F8E12-E988-4D76-8A09-163DD84F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66FA-E4AE-41C7-B4B9-C8F9A579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A7AB84-7AA2-4909-BEF4-F06905C3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DBEAFA-3165-48CC-8A55-D045D9D9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1C4B1E-F7E2-4A20-B886-A04942CB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447553-DEAB-4C5B-AFCC-73FFE662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F242FD-7A0B-478C-99E8-AB90ED0A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A2C2C4-84B4-49F7-8E94-EDA9FEB7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5E796B-1C17-4924-9364-96CAB0C5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DDD51E-C005-4E1E-A99E-5C1D7275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8D7EC8-A990-4E1F-974B-5B8E4A9E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A89356-7B97-4A80-A191-DF234AED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DC2A-F34D-451D-8710-AADCFC13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5A16CE-3CF4-4511-B341-F9F344F8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2BFB07-6227-49BA-B4F0-E489947D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326BC8-ECB9-4A81-960E-CA425437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714F43-5E53-4046-8260-F06E6755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1D7F64-F17A-41D3-BFF9-564FB8ED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76981A-EDD8-4D6A-A122-1A161960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3B3CB6-FA1F-4829-9C84-D6BFA6DD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A05813-F777-4B05-889C-D85E6776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EFF6A9-4F3B-42E9-818B-7F27C1C4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687CB8-863E-420D-94A5-99BC4A08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821E-DABA-4CE6-A389-0C34830A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19DF05-1C0D-48C7-BD7A-D9ED5149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779316-5D9C-4C65-9441-050CB96B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4C3D56-B669-4DF1-B335-FA2441F2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568205-7142-4E88-9886-8ECC7ABA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B996EA-6F95-41D9-B408-C94440C0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FEED8B-5C4E-4B24-8E8C-20E18450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A25F98-A6BE-4809-8143-759FC668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5129D2-1740-42F2-B518-D570BBEA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655AEE-C2DD-480C-B18C-0E06FCAB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8EAC5C-7850-4635-9078-311D28D7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9121-D354-4FE3-AB28-E02A5A59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9221-09DD-4218-BD36-6ACC53CA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92DFD1-E153-44D6-95BC-704059F9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19D2DC-167D-4347-9E24-B521F646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3899A9-64C1-4F42-A7FA-3E3DE82D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301527-A1A6-4A14-B39E-1C8F7CF9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25496A-12E1-41FB-9A70-9B4381FE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721F88-3635-4088-B47A-A6618225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F1EE98-B0A3-436B-A5FF-44866C6B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88547B-056A-48F0-9218-BE57E9EE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77C9AC-AF73-47BC-8BDF-97EB1C53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4F2BC4-D8AB-485C-A909-B52206AF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CADD-D84D-4153-80F5-F84E7FF0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FFE80A-E98A-4FD6-8B50-73D0EBCC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ABFE9B-21A6-4FD3-8961-73719AA3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2BA3FC-76C1-43A3-8FE0-1DB55983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7037D2-4678-4DB0-98E9-5E135BD2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AA2AE8-B35A-430A-907B-C910E6E5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2E4136-2A54-4A09-9F76-6C0181D0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CF0077-6272-4CDA-B133-88ED0A21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47BDFD-2D7E-4109-832A-EC401AE0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67A055-745D-4039-AFC9-B26C40C7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A399E6-D2AA-495B-90A2-646C90ED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A13A-909B-43A3-BC7F-AE6689F0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4680AF-6EE1-4E28-8A67-BE3D8513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C50ADD-ED58-4178-8AB4-92DC2E9C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42BFA1-A556-4C4D-928F-225F5C06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36248D-52B7-40D8-9959-0BF63F63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D73625-7F9C-403D-B7C3-4108BEC6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24B832-3A6C-455E-B995-9213A3D6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732EB5-D0C1-4561-8068-778EB411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FFD23E-4AF4-4D4F-9044-97FB3B9D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B8BF00-FCBF-4718-A198-9A3C4B5F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825250-76D3-4316-9B35-00458C07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FEEA-3A32-4ED3-ADFC-3BD75C8D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AB8413-86EE-427C-91F8-5379E776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9818EB-EC21-47C6-9DEC-1944EFCD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92B5D3-2A02-4787-BD4A-F23960C5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29B8D8-2069-48C6-AC7F-FE38456C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BF7D69-1CB9-4289-BB65-A4E9F5D5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316B02-A6FE-4AF9-A802-AD029C7A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21425C-F8EE-472D-B77C-79B0214D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764CA0-D439-4596-84C3-CEAFBAEE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C81D92-4E72-4590-8945-0EF83BFF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70FDB4-7354-4E0D-89C0-6F13B9A7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5C03-2019-4E26-9304-B278620A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982C07-641D-4B76-8B08-356FCBD8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056020-24E6-4C02-A095-7024F09F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E83B42-2472-4E3E-B06B-C58E0FB8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1C23A5-169D-494E-BD16-08B495D3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A0AD85-A18B-4DE2-BAED-B0E8C311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042B8D-43B1-4F04-A2AA-284F430A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16C250-D1C3-45B3-9FEB-FD39A6D2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2F2EA1-35B6-4120-BED7-3BA9A4FE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D44C6E-2D7E-4E32-9DC1-B8A2DCD2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61EA68-74B9-43AF-9A89-E9CB8FEA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5A0A6-8EA8-4BED-92DD-4042025D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4DAAD3-03AD-4AE0-A6CE-643BC680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A00E60-9D5E-41C8-9526-6EB4A6C2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373A66-2156-44D3-890D-4C51816C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799C84-DD56-4D01-9138-7E565A9A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03E3A3-C7EC-47A1-86CB-E54755EC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9E506A-E350-4AA5-BEEE-9D483326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90275A-8018-4128-A949-6CDDB451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70F57F-C0DC-4D7E-84E1-F04EC1F1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BC7307-40B3-4811-A3AA-A8393F9C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88DB2D-5710-4362-BD1F-D6FEFFCC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219AC-2C1B-4E72-BC35-F59679D5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523556-E3A3-41E0-B69A-5D8E276F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BDE304-0052-4FF4-8E92-AA41AC54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D72DA6-8613-40D6-A765-CC8145C1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48A49B-53BE-4B11-B961-12FFAB60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5C742D-64ED-45D9-BC27-EE05B050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EABF9A-4ECF-4058-83EE-A5A343FB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458E21-46CE-4C57-A62F-95B3898B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202A7B-A1C3-41E5-AF69-D2F3AD71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F4EEC0-894E-430B-8D98-AA39E91C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636C4A-27A6-42C0-B92F-9B3BFFBC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0111F-F68E-4A4D-9F05-F73AE6F7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25D6A0-E1DE-4836-8A56-91B05749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0977EC-7D8E-49DB-B3A1-29C61F8B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A13685-55A6-435C-8E8A-AAA2E939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863CAF-6C40-4AB9-850E-F22A3E01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E65A4D-635F-4F73-A346-1CBCE4F9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F35479-8D10-49F9-8E92-37E27803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CECFD4-DAE2-4264-BAB4-9C322C53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2F4AEB-8167-475D-8360-FAB891E1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4FE773-D248-4C41-B6AB-AF1475D3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16B3F7-91ED-472B-B4C7-5AD09EE6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72DD3-A499-40B7-878F-84E03DFA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1AAB60-7A35-4365-A0A1-AF180DB3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2F4831-0FB5-4E47-AC54-6C566CD8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6449D2-2F38-449D-8848-FDFAC5DB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EAFCA5-C7BD-4A27-846D-4BE43D79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BA373B-8EF4-4D9C-BB80-EA34A5BD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DEE554-21A7-4F2D-B854-FDD25BA8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E4CEE4-EEC7-40B2-A020-259A6F84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5108E6-D5E0-4489-9B81-C2677034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D8D475-A784-482D-872E-73CCB30C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629480-FF4C-43F1-BECD-F4FE9031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D6995-CEA4-44F0-92E0-675D945E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5B2EEA-7293-4366-AAAA-096F7833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135A53-CD4A-41F8-ABD8-787C4799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4B5D42-8AD6-46EF-B2C3-3DADFE2E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7166B1-6C10-4FB6-8D4E-225A115F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44FF61-3965-4E77-9B1C-50C74B95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5E7487-7BD8-4D9E-AF81-88FA97DE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D9ED44-BDBA-4CDA-812B-83432191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BF8229-282E-4073-9942-4DF7ACAE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768094-80B6-4CD8-9ED7-D6E48077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1AE906-82BA-47E0-8CE8-A440D04B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9A6D-EC23-456E-B55E-77E1937A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F55A2-560A-477D-AF19-83E0E5FA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E92BA4-70F8-466D-A266-BE998599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301769-7010-4FA4-AC59-ADB0E311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4DA31B-1B58-4A9A-B934-6A7575C9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1D345F-861C-4C0D-8C31-6AF99650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59486E-0B76-455A-BEB8-1328077C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66F4C3-E83E-45E1-9A3C-1B9924E0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7532C7-FE65-44CD-B929-3DAEAA3B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7B1BFE-EFD0-41B8-A673-DB206796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CDFD8E-75C9-4B41-AD8A-0F47787A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EE040E-563B-4DAB-93C4-E3DAF3F8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56579-500B-4423-BB3A-B85AB7B0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3DA67C-1073-4342-8399-1577330C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9490AB-2FA6-40B1-9F3E-5AAE4DD7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3BE1F5-F0C9-4DD8-A723-7AABE33C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8C6610-59BE-4FFF-9537-E296ACA7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207948-56CA-4E9F-8987-5946977D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43DA6C-AC17-4027-9012-74280E8B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6606AD-C017-4C2F-B81E-19A830B5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B3022D-2849-4FBE-923C-CE322939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CE16F1-5766-496C-947D-9F9CDF37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8FE957-F0F5-4596-A01F-A6C702ED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66478-4FE5-4A6D-A10D-DAA9666C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702BC8-EF9F-4436-A5C9-84D59FC8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0D9B7B-0BE4-4E34-8BDA-D520630B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2A4CD3-7FD6-4128-A981-CF81CB38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F97F4F-37B1-4F3E-9F5F-B5CB283C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21AEBC-2A49-44B5-8121-21484AF3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C58011-ADF7-4103-9764-EC9B8339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D9E93F-4F0C-400E-A8C7-BD7E8C0D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854D67-C7D4-4C13-AF17-B955AE29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2E5CE6-EBC6-40C6-A6D0-E44A40FC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E91FAE-52CB-409D-BE88-174E1D77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46251-1C2E-4CD4-8A35-BA5F332C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E93244-B9CF-4199-9BDA-CC34A28C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6B5937-78C8-444D-A466-1385EE89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B2FE98-50E4-4B67-A878-85B2B3F2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7AFD63-9BEE-46C5-9A06-758C5624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ED5C14-6094-4CB2-B56D-0BBD6B04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F28D13-F0E1-4EFD-829F-0797FB46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934714-60C2-4018-9A1C-E720DF2A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1731C4-B33D-4FAE-AC1B-9F1DA3D6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686FDE-4485-459F-8779-BA10A5F9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D2D360-0D65-4163-B863-12DB1C82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DB4C4-EECF-4FCE-B66C-2A4BC9BA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70F5AB-511D-4181-9E34-5CC6AA36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3F5663-8441-4281-84DC-813F5E7D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2753D7-B013-4768-A3A0-7EB04053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FC6DEA-6AD6-49F5-8B22-903F4F43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E5BE23-3051-4E32-8906-B2BE59DA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B0B253-D9C8-43FD-800D-3F03DC28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48536F-FFD6-4558-8F1A-DE8EC63A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847B68-D968-4464-85CD-07C1E176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2D0488-522B-45FB-B747-E36C5482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052C52-63CF-4984-A0C7-C816E612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56014-93AA-4ED4-8548-A4C186FC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8C2FCD-BF13-4625-A443-FBB6C79B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EDA87C-54A0-4C62-954A-8EAAB02D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E797BF-E8BF-42A4-A66B-C5C5D643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05CE8D-455E-4586-89A8-BB858112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35C0FB-91AF-4E43-B256-B91B87F1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F751F3-E111-4852-AFEB-D07489DD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6CE0FC-BF2A-4ABD-BC09-09A0F111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9C406EB-4204-4EDA-91B6-2F663FCC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DBFA9A-1AA7-4144-BB02-F8AF0568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0C64CB-D42C-46B4-B387-A159B65B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32428-A9F8-46F2-9999-C99DB10D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3E15F3-7B29-493F-ADC6-47D129F1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E9B239-51C2-4527-875B-BB451519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10598F0-54F5-4E7D-89EB-507A285D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31B686-C1D5-4910-9C3D-141FD97B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AED119-BC7F-47B5-958B-D551CE95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6C61DA-2D49-42E6-8FC5-9D1D4434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596289C-408E-4A85-82FE-1432D45C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436921-2E2B-4842-9FED-CBC248C4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DA1CE1F-C066-4FEF-B4A0-41821A70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3A50A1-C065-4919-8405-0DB71ECA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56032-5FA4-471C-8514-37B3AB4A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C93987F-8A88-408E-A117-8A71C068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8C6397-3DE6-4524-BC81-C7D21E1C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879532-768C-44D6-873B-164E56EC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E6A8E-5637-4C94-A748-501E88C3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61265-7E46-452C-8C11-1CF20066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6B5A-FE27-4F37-8306-F60A1E5A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A008A-B5A6-4EDB-9F99-6F611663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6B23E-43EE-4F5C-A6CC-F74DA613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F7F1C-4D04-4AB8-8EEE-083A9D5B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E8F13-EA76-4434-8E7F-14A9C2D2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A21F4-EDA2-49AE-9DA0-5B127DBD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CBCDD-C5C2-4B3C-ABD3-D7DCF059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04D33-CD7A-4978-8EE9-F831E3FD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753D4-41B8-429A-B2D0-0E20155D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92117-4DF2-4E80-9D48-8016283E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A486F-1EB2-4BB8-B04E-79D378EF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474C-6266-429A-AA8D-5C5A9562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FE493-9D27-49BC-9636-6E9E44CD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83194-FDA2-4A87-862D-86EC3C30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85B69-985F-469B-97CB-F38F9B9B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E52CF-582B-416F-95BC-13108119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078CC-5DF7-44D7-9A92-74F8BD84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90D2F-AD9F-4E88-A7A7-253DCD6B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24BE1-425B-4C80-8A95-FE690095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161F2-82C3-4067-B424-1E915470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A58C4-97CB-4D15-9EF5-5567B326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B5A4E-4180-45F6-A8BE-7BA2A752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EA6-5935-424B-BD18-C5D3FA15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3E69A-8168-4033-B096-50F9F984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80C3C-876B-435E-B46E-B34513C5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0C5F9-8F56-44EC-9EEA-49D5AF83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CEF00-ED89-443C-9950-397438B9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C2FBE-C4B8-4A7F-8879-900D9DC5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EC42E-F412-4F94-809C-972C74C7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82FBD-D3D5-4DBD-8619-4DE0D46B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1C7CD-D744-4A76-8B49-BB497C09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9F23F-554F-4D11-9519-27BDF0E5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9D0D8-7F54-4DC5-9A44-E97D66AF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F000-55E3-4361-AD82-22F6D48D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A7704-3EC9-4A12-950B-D1B4FE3C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0F9CD-A3C0-40A3-836B-4E26A74C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7C6EC-6592-453F-B83C-D44F9015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966E7-711D-4444-9E66-BDA5ADEC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3C78E-0A3D-462C-A610-482A4C89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CCA47-E210-438D-BB32-DE9D4FE0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71006-9BE8-4D4A-81E9-50AB8F69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D2C22-CD98-4C29-B482-6608F37D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455F0-442A-4BC1-888B-934CA570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005B1-BFD6-47C9-A510-307A3154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EB37-8F68-4B34-ADEC-6F98005A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C2D6E-2E84-44B6-84F4-91819D3F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84FF0-963E-45BF-8FDC-79BF88F3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4CF16-6AA0-4AE6-83AD-22E83AF2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BADF4-BEC8-4585-A782-523871EC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14DB6-84FE-4A2E-9B2B-20C115A5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75E3F-CE7E-4638-BEE8-79BC9B68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47CA1-B552-4C75-A06F-8E9CC64B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E6BDB-B224-4A2B-875E-1927E38E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5FCC0-5D51-406E-9423-43B35330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5837B-4D64-4880-B9C0-56334BB9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776E-5F76-4540-8F69-3CB261C5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D72CD-9B06-4D04-82DC-C696EBE2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4D330-6209-48A5-BD48-294CC938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85C16-838B-48FE-A61B-78378950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29426-6C82-4E12-9D6E-33A5EC3A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B39FA-74EF-429B-BDA6-9A57CB74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1B95D-117C-4BAE-8C5B-D2B84E73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F007B-1DD7-4C8E-BAF9-723B16A8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F141B-B90D-4412-AF2F-5A54A44C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F6543-09D7-45BC-87C6-8BFE44A0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6FE34-3F6B-4B1D-8EBD-97CFCE4A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56C9-F010-452C-B0C2-C638E2387E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7A77-36B0-4328-A1F2-D878A541AA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8B61-A82C-4E05-8C8E-37AC38D1EF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A53C-5EB2-4E82-B654-F92BFDE2CB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2F51-3BDF-4DBD-8AAD-6C5EB4D7D6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0CC4-1C71-4CF8-B3F1-C1F408C841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8D59-79AA-4720-91BF-78C9040B0B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2CE2-C220-4BFA-BB65-66A12BCC88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4451-370E-4DA6-AD8D-7F330D12D4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AD77-1D13-4021-A8F1-4A1B0610AA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820D-692C-4A6F-8805-E639CA6F44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32C1-5998-4AE6-85A1-4B1A7DEA48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BECA-A915-49F6-B0DB-F120E7C942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301D-D765-40C6-BB23-08B13520D8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3735-3182-49EA-8C86-48EBD37E4A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F659-E20C-43D0-9CE0-A7E3C5D1F4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DF8B-6990-4DC0-8AC6-6C4B436685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406E-B29F-4850-A8A8-DDC0BDA473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0164-87D7-4BFA-BC6E-251ECBB2B5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853E-5C8E-48F7-9C07-53E0AC54FB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661D-83B3-402B-BE4B-C79F83041B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0B11-7D7E-4B45-B2A3-1F1ED606CD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7BE0-931D-482A-B854-FDAB5FD704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5EF9-8BA9-47C3-AFD0-2BBD65EED4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F805-91C4-40C4-A0B2-3239BEA43E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060B-9BF0-4268-8AA2-B449A21471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9B6E-98E6-4467-A189-42D4550994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58E6-A9D4-4BEC-BF56-A95C4FA1DF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E641-1A23-475D-9546-DD770E4EDF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38D6-EFF8-43EB-B202-EB1B7B0658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C737-D8BF-4EB9-B1CF-28F0ED7332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4A85-E724-4573-AF24-EF14276CB3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DD9E-E39D-45BB-9B34-0971B9FFFA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0F83-CCDD-4C62-AD43-662827B5E0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D5BD-1F6B-4F96-8E41-565A6F0191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5B5B-0D05-45F9-A2B9-DB4C8BB7A2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BF6A-3E54-4FE0-9627-284EE475E2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547D-B8C8-45A3-B19D-41594611FE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65A3-FA69-4CBB-857B-5B9AD78CC2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E4B8-0F1B-4A34-A4E0-AADDCA61D2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5600-39BA-4A05-9D87-195E6A8263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52A7-7134-47B2-89BE-ECB792E0F6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76E0-5FF1-4215-8DE1-7E3F4270FB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CAEE-0332-42AD-B479-04AC82A23B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17AA-0F21-4C55-A49B-E33091C0AA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0949-48FA-48B2-8481-6DD7967356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D51B-F5E4-4A6A-A53B-852DAC19D7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BA39-83C8-4F3B-9C31-0B5532A44C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47C2-2240-4DBF-B077-535620140A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6675-AB45-483B-9397-1F19C305B1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157320" y="2209680"/>
            <a:ext cx="88293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122881" descr=""/>
          <p:cNvPicPr/>
          <p:nvPr/>
        </p:nvPicPr>
        <p:blipFill>
          <a:blip r:embed="rId1"/>
          <a:stretch/>
        </p:blipFill>
        <p:spPr>
          <a:xfrm>
            <a:off x="152280" y="2386080"/>
            <a:ext cx="8839440" cy="2085840"/>
          </a:xfrm>
          <a:prstGeom prst="rect">
            <a:avLst/>
          </a:prstGeom>
          <a:ln w="0">
            <a:noFill/>
          </a:ln>
        </p:spPr>
      </p:pic>
      <p:sp>
        <p:nvSpPr>
          <p:cNvPr id="1452" name="矩形 122882"/>
          <p:cNvSpPr/>
          <p:nvPr/>
        </p:nvSpPr>
        <p:spPr>
          <a:xfrm>
            <a:off x="8283600" y="24462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121857" descr=""/>
          <p:cNvPicPr/>
          <p:nvPr/>
        </p:nvPicPr>
        <p:blipFill>
          <a:blip r:embed="rId1"/>
          <a:stretch/>
        </p:blipFill>
        <p:spPr>
          <a:xfrm>
            <a:off x="185760" y="1071720"/>
            <a:ext cx="8772480" cy="4714560"/>
          </a:xfrm>
          <a:prstGeom prst="rect">
            <a:avLst/>
          </a:prstGeom>
          <a:ln w="0">
            <a:noFill/>
          </a:ln>
        </p:spPr>
      </p:pic>
      <p:sp>
        <p:nvSpPr>
          <p:cNvPr id="1454" name="矩形 121858"/>
          <p:cNvSpPr/>
          <p:nvPr/>
        </p:nvSpPr>
        <p:spPr>
          <a:xfrm>
            <a:off x="8321760" y="14652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20833" descr=""/>
          <p:cNvPicPr/>
          <p:nvPr/>
        </p:nvPicPr>
        <p:blipFill>
          <a:blip r:embed="rId1"/>
          <a:stretch/>
        </p:blipFill>
        <p:spPr>
          <a:xfrm>
            <a:off x="179280" y="1987560"/>
            <a:ext cx="8772480" cy="361800"/>
          </a:xfrm>
          <a:prstGeom prst="rect">
            <a:avLst/>
          </a:prstGeom>
          <a:ln w="0">
            <a:noFill/>
          </a:ln>
        </p:spPr>
      </p:pic>
      <p:pic>
        <p:nvPicPr>
          <p:cNvPr id="1456" name="图片 120834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8210520" cy="2028960"/>
          </a:xfrm>
          <a:prstGeom prst="rect">
            <a:avLst/>
          </a:prstGeom>
          <a:ln w="0">
            <a:noFill/>
          </a:ln>
        </p:spPr>
      </p:pic>
      <p:sp>
        <p:nvSpPr>
          <p:cNvPr id="1457" name="矩形 120835"/>
          <p:cNvSpPr/>
          <p:nvPr/>
        </p:nvSpPr>
        <p:spPr>
          <a:xfrm>
            <a:off x="8312040" y="2798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119809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72480" cy="5343840"/>
          </a:xfrm>
          <a:prstGeom prst="rect">
            <a:avLst/>
          </a:prstGeom>
          <a:ln w="0">
            <a:noFill/>
          </a:ln>
        </p:spPr>
      </p:pic>
      <p:sp>
        <p:nvSpPr>
          <p:cNvPr id="1459" name="矩形 119810"/>
          <p:cNvSpPr/>
          <p:nvPr/>
        </p:nvSpPr>
        <p:spPr>
          <a:xfrm>
            <a:off x="8292960" y="7700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19811"/>
          <p:cNvSpPr/>
          <p:nvPr/>
        </p:nvSpPr>
        <p:spPr>
          <a:xfrm>
            <a:off x="8302680" y="48657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118785" descr=""/>
          <p:cNvPicPr/>
          <p:nvPr/>
        </p:nvPicPr>
        <p:blipFill>
          <a:blip r:embed="rId1"/>
          <a:stretch/>
        </p:blipFill>
        <p:spPr>
          <a:xfrm>
            <a:off x="176040" y="1190520"/>
            <a:ext cx="8791920" cy="4476960"/>
          </a:xfrm>
          <a:prstGeom prst="rect">
            <a:avLst/>
          </a:prstGeom>
          <a:ln w="0">
            <a:noFill/>
          </a:ln>
        </p:spPr>
      </p:pic>
      <p:sp>
        <p:nvSpPr>
          <p:cNvPr id="1462" name="矩形 118786"/>
          <p:cNvSpPr/>
          <p:nvPr/>
        </p:nvSpPr>
        <p:spPr>
          <a:xfrm>
            <a:off x="1111320" y="5342040"/>
            <a:ext cx="5960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17761" descr=""/>
          <p:cNvPicPr/>
          <p:nvPr/>
        </p:nvPicPr>
        <p:blipFill>
          <a:blip r:embed="rId1"/>
          <a:stretch/>
        </p:blipFill>
        <p:spPr>
          <a:xfrm>
            <a:off x="338040" y="1747800"/>
            <a:ext cx="8467920" cy="336240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17762"/>
          <p:cNvSpPr/>
          <p:nvPr/>
        </p:nvSpPr>
        <p:spPr>
          <a:xfrm>
            <a:off x="873000" y="2617920"/>
            <a:ext cx="785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17763"/>
          <p:cNvSpPr/>
          <p:nvPr/>
        </p:nvSpPr>
        <p:spPr>
          <a:xfrm>
            <a:off x="949320" y="305604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17764"/>
          <p:cNvSpPr/>
          <p:nvPr/>
        </p:nvSpPr>
        <p:spPr>
          <a:xfrm>
            <a:off x="873000" y="3484440"/>
            <a:ext cx="785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17765"/>
          <p:cNvSpPr/>
          <p:nvPr/>
        </p:nvSpPr>
        <p:spPr>
          <a:xfrm>
            <a:off x="892080" y="3865680"/>
            <a:ext cx="785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17766"/>
          <p:cNvSpPr/>
          <p:nvPr/>
        </p:nvSpPr>
        <p:spPr>
          <a:xfrm>
            <a:off x="949320" y="429408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17767"/>
          <p:cNvSpPr/>
          <p:nvPr/>
        </p:nvSpPr>
        <p:spPr>
          <a:xfrm>
            <a:off x="882720" y="474192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图片 116737" descr=""/>
          <p:cNvPicPr/>
          <p:nvPr/>
        </p:nvPicPr>
        <p:blipFill>
          <a:blip r:embed="rId1"/>
          <a:stretch/>
        </p:blipFill>
        <p:spPr>
          <a:xfrm>
            <a:off x="476280" y="2000160"/>
            <a:ext cx="8191440" cy="2857680"/>
          </a:xfrm>
          <a:prstGeom prst="rect">
            <a:avLst/>
          </a:prstGeom>
          <a:ln w="0">
            <a:noFill/>
          </a:ln>
        </p:spPr>
      </p:pic>
      <p:sp>
        <p:nvSpPr>
          <p:cNvPr id="1471" name="矩形 116738"/>
          <p:cNvSpPr/>
          <p:nvPr/>
        </p:nvSpPr>
        <p:spPr>
          <a:xfrm>
            <a:off x="958680" y="2817720"/>
            <a:ext cx="785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6739"/>
          <p:cNvSpPr/>
          <p:nvPr/>
        </p:nvSpPr>
        <p:spPr>
          <a:xfrm>
            <a:off x="939960" y="320832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6740"/>
          <p:cNvSpPr/>
          <p:nvPr/>
        </p:nvSpPr>
        <p:spPr>
          <a:xfrm>
            <a:off x="844560" y="363708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16741"/>
          <p:cNvSpPr/>
          <p:nvPr/>
        </p:nvSpPr>
        <p:spPr>
          <a:xfrm>
            <a:off x="882720" y="405612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16742"/>
          <p:cNvSpPr/>
          <p:nvPr/>
        </p:nvSpPr>
        <p:spPr>
          <a:xfrm>
            <a:off x="920880" y="448452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115713" descr=""/>
          <p:cNvPicPr/>
          <p:nvPr/>
        </p:nvPicPr>
        <p:blipFill>
          <a:blip r:embed="rId1"/>
          <a:stretch/>
        </p:blipFill>
        <p:spPr>
          <a:xfrm>
            <a:off x="214200" y="1781280"/>
            <a:ext cx="871560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图片 114689" descr=""/>
          <p:cNvPicPr/>
          <p:nvPr/>
        </p:nvPicPr>
        <p:blipFill>
          <a:blip r:embed="rId1"/>
          <a:stretch/>
        </p:blipFill>
        <p:spPr>
          <a:xfrm>
            <a:off x="452520" y="1852560"/>
            <a:ext cx="8238960" cy="3152880"/>
          </a:xfrm>
          <a:prstGeom prst="rect">
            <a:avLst/>
          </a:prstGeom>
          <a:ln w="0">
            <a:noFill/>
          </a:ln>
        </p:spPr>
      </p:pic>
      <p:sp>
        <p:nvSpPr>
          <p:cNvPr id="1478" name="矩形 114690"/>
          <p:cNvSpPr/>
          <p:nvPr/>
        </p:nvSpPr>
        <p:spPr>
          <a:xfrm>
            <a:off x="816120" y="432288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4691"/>
          <p:cNvSpPr/>
          <p:nvPr/>
        </p:nvSpPr>
        <p:spPr>
          <a:xfrm>
            <a:off x="720720" y="470376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图片 113665" descr=""/>
          <p:cNvPicPr/>
          <p:nvPr/>
        </p:nvPicPr>
        <p:blipFill>
          <a:blip r:embed="rId1"/>
          <a:stretch/>
        </p:blipFill>
        <p:spPr>
          <a:xfrm>
            <a:off x="423720" y="1376280"/>
            <a:ext cx="8296560" cy="4105440"/>
          </a:xfrm>
          <a:prstGeom prst="rect">
            <a:avLst/>
          </a:prstGeom>
          <a:ln w="0">
            <a:noFill/>
          </a:ln>
        </p:spPr>
      </p:pic>
      <p:sp>
        <p:nvSpPr>
          <p:cNvPr id="1481" name="矩形 113666"/>
          <p:cNvSpPr/>
          <p:nvPr/>
        </p:nvSpPr>
        <p:spPr>
          <a:xfrm>
            <a:off x="892080" y="1798560"/>
            <a:ext cx="785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13667"/>
          <p:cNvSpPr/>
          <p:nvPr/>
        </p:nvSpPr>
        <p:spPr>
          <a:xfrm>
            <a:off x="930240" y="223668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13668"/>
          <p:cNvSpPr/>
          <p:nvPr/>
        </p:nvSpPr>
        <p:spPr>
          <a:xfrm>
            <a:off x="911160" y="259884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3669"/>
          <p:cNvSpPr/>
          <p:nvPr/>
        </p:nvSpPr>
        <p:spPr>
          <a:xfrm>
            <a:off x="911160" y="383688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3670"/>
          <p:cNvSpPr/>
          <p:nvPr/>
        </p:nvSpPr>
        <p:spPr>
          <a:xfrm>
            <a:off x="901800" y="426564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3671"/>
          <p:cNvSpPr/>
          <p:nvPr/>
        </p:nvSpPr>
        <p:spPr>
          <a:xfrm>
            <a:off x="930240" y="463716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3672"/>
          <p:cNvSpPr/>
          <p:nvPr/>
        </p:nvSpPr>
        <p:spPr>
          <a:xfrm>
            <a:off x="844560" y="506556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29" descr=""/>
          <p:cNvPicPr/>
          <p:nvPr/>
        </p:nvPicPr>
        <p:blipFill>
          <a:blip r:embed="rId1"/>
          <a:stretch/>
        </p:blipFill>
        <p:spPr>
          <a:xfrm>
            <a:off x="181080" y="1185840"/>
            <a:ext cx="8781840" cy="448632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0"/>
          <p:cNvSpPr/>
          <p:nvPr/>
        </p:nvSpPr>
        <p:spPr>
          <a:xfrm>
            <a:off x="8331120" y="24084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124931"/>
          <p:cNvSpPr/>
          <p:nvPr/>
        </p:nvSpPr>
        <p:spPr>
          <a:xfrm>
            <a:off x="8302680" y="4913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112641" descr=""/>
          <p:cNvPicPr/>
          <p:nvPr/>
        </p:nvPicPr>
        <p:blipFill>
          <a:blip r:embed="rId1"/>
          <a:stretch/>
        </p:blipFill>
        <p:spPr>
          <a:xfrm>
            <a:off x="190440" y="1095480"/>
            <a:ext cx="876312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9" name="图片 111617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315280" cy="2447640"/>
          </a:xfrm>
          <a:prstGeom prst="rect">
            <a:avLst/>
          </a:prstGeom>
          <a:ln w="0">
            <a:noFill/>
          </a:ln>
        </p:spPr>
      </p:pic>
      <p:pic>
        <p:nvPicPr>
          <p:cNvPr id="1490" name="图片 111618" descr=""/>
          <p:cNvPicPr/>
          <p:nvPr/>
        </p:nvPicPr>
        <p:blipFill>
          <a:blip r:embed="rId2"/>
          <a:stretch/>
        </p:blipFill>
        <p:spPr>
          <a:xfrm>
            <a:off x="468360" y="4325760"/>
            <a:ext cx="8248680" cy="1695600"/>
          </a:xfrm>
          <a:prstGeom prst="rect">
            <a:avLst/>
          </a:prstGeom>
          <a:ln w="0">
            <a:noFill/>
          </a:ln>
        </p:spPr>
      </p:pic>
      <p:sp>
        <p:nvSpPr>
          <p:cNvPr id="1491" name="矩形 111619"/>
          <p:cNvSpPr/>
          <p:nvPr/>
        </p:nvSpPr>
        <p:spPr>
          <a:xfrm>
            <a:off x="863640" y="181764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1620"/>
          <p:cNvSpPr/>
          <p:nvPr/>
        </p:nvSpPr>
        <p:spPr>
          <a:xfrm>
            <a:off x="873000" y="2208240"/>
            <a:ext cx="785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11621"/>
          <p:cNvSpPr/>
          <p:nvPr/>
        </p:nvSpPr>
        <p:spPr>
          <a:xfrm>
            <a:off x="853920" y="2655720"/>
            <a:ext cx="785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1622"/>
          <p:cNvSpPr/>
          <p:nvPr/>
        </p:nvSpPr>
        <p:spPr>
          <a:xfrm>
            <a:off x="806400" y="303696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11623"/>
          <p:cNvSpPr/>
          <p:nvPr/>
        </p:nvSpPr>
        <p:spPr>
          <a:xfrm>
            <a:off x="720720" y="343692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11624"/>
          <p:cNvSpPr/>
          <p:nvPr/>
        </p:nvSpPr>
        <p:spPr>
          <a:xfrm>
            <a:off x="816120" y="513252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11625"/>
          <p:cNvSpPr/>
          <p:nvPr/>
        </p:nvSpPr>
        <p:spPr>
          <a:xfrm>
            <a:off x="777960" y="556092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图片 110593" descr=""/>
          <p:cNvPicPr/>
          <p:nvPr/>
        </p:nvPicPr>
        <p:blipFill>
          <a:blip r:embed="rId1"/>
          <a:stretch/>
        </p:blipFill>
        <p:spPr>
          <a:xfrm>
            <a:off x="399960" y="1338120"/>
            <a:ext cx="8344080" cy="4181760"/>
          </a:xfrm>
          <a:prstGeom prst="rect">
            <a:avLst/>
          </a:prstGeom>
          <a:ln w="0">
            <a:noFill/>
          </a:ln>
        </p:spPr>
      </p:pic>
      <p:sp>
        <p:nvSpPr>
          <p:cNvPr id="1499" name="矩形 110594"/>
          <p:cNvSpPr/>
          <p:nvPr/>
        </p:nvSpPr>
        <p:spPr>
          <a:xfrm>
            <a:off x="958680" y="2170080"/>
            <a:ext cx="785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10595"/>
          <p:cNvSpPr/>
          <p:nvPr/>
        </p:nvSpPr>
        <p:spPr>
          <a:xfrm>
            <a:off x="816120" y="255096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10596"/>
          <p:cNvSpPr/>
          <p:nvPr/>
        </p:nvSpPr>
        <p:spPr>
          <a:xfrm>
            <a:off x="825480" y="299880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10597"/>
          <p:cNvSpPr/>
          <p:nvPr/>
        </p:nvSpPr>
        <p:spPr>
          <a:xfrm>
            <a:off x="797040" y="341784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110598"/>
          <p:cNvSpPr/>
          <p:nvPr/>
        </p:nvSpPr>
        <p:spPr>
          <a:xfrm>
            <a:off x="755640" y="3860640"/>
            <a:ext cx="7993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矩形 110599"/>
          <p:cNvSpPr/>
          <p:nvPr/>
        </p:nvSpPr>
        <p:spPr>
          <a:xfrm>
            <a:off x="755640" y="4221000"/>
            <a:ext cx="806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矩形 110600"/>
          <p:cNvSpPr/>
          <p:nvPr/>
        </p:nvSpPr>
        <p:spPr>
          <a:xfrm>
            <a:off x="806400" y="469440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10601"/>
          <p:cNvSpPr/>
          <p:nvPr/>
        </p:nvSpPr>
        <p:spPr>
          <a:xfrm>
            <a:off x="844560" y="511344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7" name="图片 109569" descr=""/>
          <p:cNvPicPr/>
          <p:nvPr/>
        </p:nvPicPr>
        <p:blipFill>
          <a:blip r:embed="rId1"/>
          <a:stretch/>
        </p:blipFill>
        <p:spPr>
          <a:xfrm>
            <a:off x="195120" y="976320"/>
            <a:ext cx="87537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8" name="图片 108545" descr=""/>
          <p:cNvPicPr/>
          <p:nvPr/>
        </p:nvPicPr>
        <p:blipFill>
          <a:blip r:embed="rId1"/>
          <a:stretch/>
        </p:blipFill>
        <p:spPr>
          <a:xfrm>
            <a:off x="380880" y="1162080"/>
            <a:ext cx="83822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9" name="图片 107521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77120" cy="2048040"/>
          </a:xfrm>
          <a:prstGeom prst="rect">
            <a:avLst/>
          </a:prstGeom>
          <a:ln w="0">
            <a:noFill/>
          </a:ln>
        </p:spPr>
      </p:pic>
      <p:pic>
        <p:nvPicPr>
          <p:cNvPr id="1510" name="图片 107522" descr=""/>
          <p:cNvPicPr/>
          <p:nvPr/>
        </p:nvPicPr>
        <p:blipFill>
          <a:blip r:embed="rId2"/>
          <a:stretch/>
        </p:blipFill>
        <p:spPr>
          <a:xfrm>
            <a:off x="395280" y="3228840"/>
            <a:ext cx="8229600" cy="3295800"/>
          </a:xfrm>
          <a:prstGeom prst="rect">
            <a:avLst/>
          </a:prstGeom>
          <a:ln w="0">
            <a:noFill/>
          </a:ln>
        </p:spPr>
      </p:pic>
      <p:sp>
        <p:nvSpPr>
          <p:cNvPr id="1511" name="矩形 107523"/>
          <p:cNvSpPr/>
          <p:nvPr/>
        </p:nvSpPr>
        <p:spPr>
          <a:xfrm>
            <a:off x="892080" y="1332000"/>
            <a:ext cx="785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矩形 107524"/>
          <p:cNvSpPr/>
          <p:nvPr/>
        </p:nvSpPr>
        <p:spPr>
          <a:xfrm>
            <a:off x="825480" y="173196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107525"/>
          <p:cNvSpPr/>
          <p:nvPr/>
        </p:nvSpPr>
        <p:spPr>
          <a:xfrm>
            <a:off x="797040" y="216072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107526"/>
          <p:cNvSpPr/>
          <p:nvPr/>
        </p:nvSpPr>
        <p:spPr>
          <a:xfrm>
            <a:off x="739800" y="258912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矩形 107527"/>
          <p:cNvSpPr/>
          <p:nvPr/>
        </p:nvSpPr>
        <p:spPr>
          <a:xfrm>
            <a:off x="873000" y="3684600"/>
            <a:ext cx="785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矩形 107528"/>
          <p:cNvSpPr/>
          <p:nvPr/>
        </p:nvSpPr>
        <p:spPr>
          <a:xfrm>
            <a:off x="806400" y="405612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矩形 107529"/>
          <p:cNvSpPr/>
          <p:nvPr/>
        </p:nvSpPr>
        <p:spPr>
          <a:xfrm>
            <a:off x="806400" y="447516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矩形 107530"/>
          <p:cNvSpPr/>
          <p:nvPr/>
        </p:nvSpPr>
        <p:spPr>
          <a:xfrm>
            <a:off x="787320" y="4865760"/>
            <a:ext cx="785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矩形 107531"/>
          <p:cNvSpPr/>
          <p:nvPr/>
        </p:nvSpPr>
        <p:spPr>
          <a:xfrm>
            <a:off x="787320" y="5332320"/>
            <a:ext cx="785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矩形 107532"/>
          <p:cNvSpPr/>
          <p:nvPr/>
        </p:nvSpPr>
        <p:spPr>
          <a:xfrm>
            <a:off x="863640" y="569448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矩形 107533"/>
          <p:cNvSpPr/>
          <p:nvPr/>
        </p:nvSpPr>
        <p:spPr>
          <a:xfrm>
            <a:off x="863640" y="613260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4" dur="1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9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2" name="图片 106497" descr=""/>
          <p:cNvPicPr/>
          <p:nvPr/>
        </p:nvPicPr>
        <p:blipFill>
          <a:blip r:embed="rId1"/>
          <a:stretch/>
        </p:blipFill>
        <p:spPr>
          <a:xfrm>
            <a:off x="179280" y="733320"/>
            <a:ext cx="8763120" cy="5791320"/>
          </a:xfrm>
          <a:prstGeom prst="rect">
            <a:avLst/>
          </a:prstGeom>
          <a:ln w="0">
            <a:noFill/>
          </a:ln>
        </p:spPr>
      </p:pic>
      <p:sp>
        <p:nvSpPr>
          <p:cNvPr id="1523" name="矩形 106498"/>
          <p:cNvSpPr/>
          <p:nvPr/>
        </p:nvSpPr>
        <p:spPr>
          <a:xfrm>
            <a:off x="1073160" y="496080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矩形 106499"/>
          <p:cNvSpPr/>
          <p:nvPr/>
        </p:nvSpPr>
        <p:spPr>
          <a:xfrm>
            <a:off x="977760" y="5313240"/>
            <a:ext cx="785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矩形 106500"/>
          <p:cNvSpPr/>
          <p:nvPr/>
        </p:nvSpPr>
        <p:spPr>
          <a:xfrm>
            <a:off x="1101600" y="5742000"/>
            <a:ext cx="785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矩形 106501"/>
          <p:cNvSpPr/>
          <p:nvPr/>
        </p:nvSpPr>
        <p:spPr>
          <a:xfrm>
            <a:off x="1177920" y="615168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6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1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6" dur="1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1" dur="1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7" name="图片 132097" descr=""/>
          <p:cNvPicPr/>
          <p:nvPr/>
        </p:nvPicPr>
        <p:blipFill>
          <a:blip r:embed="rId1"/>
          <a:stretch/>
        </p:blipFill>
        <p:spPr>
          <a:xfrm>
            <a:off x="447840" y="942840"/>
            <a:ext cx="8248320" cy="4972320"/>
          </a:xfrm>
          <a:prstGeom prst="rect">
            <a:avLst/>
          </a:prstGeom>
          <a:ln w="0">
            <a:noFill/>
          </a:ln>
        </p:spPr>
      </p:pic>
      <p:sp>
        <p:nvSpPr>
          <p:cNvPr id="1528" name="矩形 132098"/>
          <p:cNvSpPr/>
          <p:nvPr/>
        </p:nvSpPr>
        <p:spPr>
          <a:xfrm>
            <a:off x="853920" y="1808280"/>
            <a:ext cx="785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矩形 132099"/>
          <p:cNvSpPr/>
          <p:nvPr/>
        </p:nvSpPr>
        <p:spPr>
          <a:xfrm>
            <a:off x="873000" y="2217600"/>
            <a:ext cx="785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矩形 132100"/>
          <p:cNvSpPr/>
          <p:nvPr/>
        </p:nvSpPr>
        <p:spPr>
          <a:xfrm>
            <a:off x="911160" y="263700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矩形 132101"/>
          <p:cNvSpPr/>
          <p:nvPr/>
        </p:nvSpPr>
        <p:spPr>
          <a:xfrm>
            <a:off x="911160" y="308448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矩形 132102"/>
          <p:cNvSpPr/>
          <p:nvPr/>
        </p:nvSpPr>
        <p:spPr>
          <a:xfrm>
            <a:off x="901800" y="346536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矩形 132103"/>
          <p:cNvSpPr/>
          <p:nvPr/>
        </p:nvSpPr>
        <p:spPr>
          <a:xfrm>
            <a:off x="942840" y="3924360"/>
            <a:ext cx="785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矩形 132104"/>
          <p:cNvSpPr/>
          <p:nvPr/>
        </p:nvSpPr>
        <p:spPr>
          <a:xfrm>
            <a:off x="882720" y="431316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矩形 132105"/>
          <p:cNvSpPr/>
          <p:nvPr/>
        </p:nvSpPr>
        <p:spPr>
          <a:xfrm>
            <a:off x="873000" y="4722840"/>
            <a:ext cx="785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矩形 132106"/>
          <p:cNvSpPr/>
          <p:nvPr/>
        </p:nvSpPr>
        <p:spPr>
          <a:xfrm>
            <a:off x="835200" y="517032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矩形 132107"/>
          <p:cNvSpPr/>
          <p:nvPr/>
        </p:nvSpPr>
        <p:spPr>
          <a:xfrm>
            <a:off x="825480" y="553248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1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1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1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1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8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3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8" dur="1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3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8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3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8" name="图片 133121" descr=""/>
          <p:cNvPicPr/>
          <p:nvPr/>
        </p:nvPicPr>
        <p:blipFill>
          <a:blip r:embed="rId1"/>
          <a:stretch/>
        </p:blipFill>
        <p:spPr>
          <a:xfrm>
            <a:off x="414360" y="2200320"/>
            <a:ext cx="8315280" cy="2457360"/>
          </a:xfrm>
          <a:prstGeom prst="rect">
            <a:avLst/>
          </a:prstGeom>
          <a:ln w="0">
            <a:noFill/>
          </a:ln>
        </p:spPr>
      </p:pic>
      <p:sp>
        <p:nvSpPr>
          <p:cNvPr id="1539" name="矩形 133122"/>
          <p:cNvSpPr/>
          <p:nvPr/>
        </p:nvSpPr>
        <p:spPr>
          <a:xfrm>
            <a:off x="930240" y="3036960"/>
            <a:ext cx="785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矩形 133123"/>
          <p:cNvSpPr/>
          <p:nvPr/>
        </p:nvSpPr>
        <p:spPr>
          <a:xfrm>
            <a:off x="853920" y="3427560"/>
            <a:ext cx="785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矩形 133124"/>
          <p:cNvSpPr/>
          <p:nvPr/>
        </p:nvSpPr>
        <p:spPr>
          <a:xfrm>
            <a:off x="826920" y="3851280"/>
            <a:ext cx="785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矩形 133125"/>
          <p:cNvSpPr/>
          <p:nvPr/>
        </p:nvSpPr>
        <p:spPr>
          <a:xfrm>
            <a:off x="730080" y="4303800"/>
            <a:ext cx="785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0" dur="1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5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0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5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图片 123905" descr=""/>
          <p:cNvPicPr/>
          <p:nvPr/>
        </p:nvPicPr>
        <p:blipFill>
          <a:blip r:embed="rId1"/>
          <a:stretch/>
        </p:blipFill>
        <p:spPr>
          <a:xfrm>
            <a:off x="119160" y="2238480"/>
            <a:ext cx="8905680" cy="2381040"/>
          </a:xfrm>
          <a:prstGeom prst="rect">
            <a:avLst/>
          </a:prstGeom>
          <a:ln w="0">
            <a:noFill/>
          </a:ln>
        </p:spPr>
      </p:pic>
      <p:sp>
        <p:nvSpPr>
          <p:cNvPr id="1437" name="矩形 123906"/>
          <p:cNvSpPr/>
          <p:nvPr/>
        </p:nvSpPr>
        <p:spPr>
          <a:xfrm>
            <a:off x="8340840" y="2627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125953" descr=""/>
          <p:cNvPicPr/>
          <p:nvPr/>
        </p:nvPicPr>
        <p:blipFill>
          <a:blip r:embed="rId1"/>
          <a:stretch/>
        </p:blipFill>
        <p:spPr>
          <a:xfrm>
            <a:off x="162000" y="1557360"/>
            <a:ext cx="8820000" cy="3743280"/>
          </a:xfrm>
          <a:prstGeom prst="rect">
            <a:avLst/>
          </a:prstGeom>
          <a:ln w="0">
            <a:noFill/>
          </a:ln>
        </p:spPr>
      </p:pic>
      <p:sp>
        <p:nvSpPr>
          <p:cNvPr id="1439" name="矩形 125954"/>
          <p:cNvSpPr/>
          <p:nvPr/>
        </p:nvSpPr>
        <p:spPr>
          <a:xfrm>
            <a:off x="8292960" y="32558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126977" descr=""/>
          <p:cNvPicPr/>
          <p:nvPr/>
        </p:nvPicPr>
        <p:blipFill>
          <a:blip r:embed="rId1"/>
          <a:stretch/>
        </p:blipFill>
        <p:spPr>
          <a:xfrm>
            <a:off x="181080" y="961920"/>
            <a:ext cx="8781840" cy="4934160"/>
          </a:xfrm>
          <a:prstGeom prst="rect">
            <a:avLst/>
          </a:prstGeom>
          <a:ln w="0">
            <a:noFill/>
          </a:ln>
        </p:spPr>
      </p:pic>
      <p:sp>
        <p:nvSpPr>
          <p:cNvPr id="1441" name="矩形 126978"/>
          <p:cNvSpPr/>
          <p:nvPr/>
        </p:nvSpPr>
        <p:spPr>
          <a:xfrm>
            <a:off x="8312040" y="9604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6979"/>
          <p:cNvSpPr/>
          <p:nvPr/>
        </p:nvSpPr>
        <p:spPr>
          <a:xfrm>
            <a:off x="8283600" y="38847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128001" descr=""/>
          <p:cNvPicPr/>
          <p:nvPr/>
        </p:nvPicPr>
        <p:blipFill>
          <a:blip r:embed="rId1"/>
          <a:stretch/>
        </p:blipFill>
        <p:spPr>
          <a:xfrm>
            <a:off x="128520" y="2171880"/>
            <a:ext cx="8886960" cy="2514600"/>
          </a:xfrm>
          <a:prstGeom prst="rect">
            <a:avLst/>
          </a:prstGeom>
          <a:ln w="0">
            <a:noFill/>
          </a:ln>
        </p:spPr>
      </p:pic>
      <p:sp>
        <p:nvSpPr>
          <p:cNvPr id="1444" name="矩形 128002"/>
          <p:cNvSpPr/>
          <p:nvPr/>
        </p:nvSpPr>
        <p:spPr>
          <a:xfrm>
            <a:off x="8416800" y="25891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129025" descr=""/>
          <p:cNvPicPr/>
          <p:nvPr/>
        </p:nvPicPr>
        <p:blipFill>
          <a:blip r:embed="rId1"/>
          <a:stretch/>
        </p:blipFill>
        <p:spPr>
          <a:xfrm>
            <a:off x="185760" y="1357200"/>
            <a:ext cx="8772480" cy="4143600"/>
          </a:xfrm>
          <a:prstGeom prst="rect">
            <a:avLst/>
          </a:prstGeom>
          <a:ln w="0">
            <a:noFill/>
          </a:ln>
        </p:spPr>
      </p:pic>
      <p:sp>
        <p:nvSpPr>
          <p:cNvPr id="1446" name="矩形 129026"/>
          <p:cNvSpPr/>
          <p:nvPr/>
        </p:nvSpPr>
        <p:spPr>
          <a:xfrm>
            <a:off x="8340840" y="13986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130049" descr=""/>
          <p:cNvPicPr/>
          <p:nvPr/>
        </p:nvPicPr>
        <p:blipFill>
          <a:blip r:embed="rId1"/>
          <a:stretch/>
        </p:blipFill>
        <p:spPr>
          <a:xfrm>
            <a:off x="181080" y="2395440"/>
            <a:ext cx="8781840" cy="2067120"/>
          </a:xfrm>
          <a:prstGeom prst="rect">
            <a:avLst/>
          </a:prstGeom>
          <a:ln w="0">
            <a:noFill/>
          </a:ln>
        </p:spPr>
      </p:pic>
      <p:sp>
        <p:nvSpPr>
          <p:cNvPr id="1448" name="矩形 130050"/>
          <p:cNvSpPr/>
          <p:nvPr/>
        </p:nvSpPr>
        <p:spPr>
          <a:xfrm>
            <a:off x="8359920" y="2484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图片 131073" descr=""/>
          <p:cNvPicPr/>
          <p:nvPr/>
        </p:nvPicPr>
        <p:blipFill>
          <a:blip r:embed="rId1"/>
          <a:stretch/>
        </p:blipFill>
        <p:spPr>
          <a:xfrm>
            <a:off x="166680" y="1743120"/>
            <a:ext cx="8810640" cy="3371760"/>
          </a:xfrm>
          <a:prstGeom prst="rect">
            <a:avLst/>
          </a:prstGeom>
          <a:ln w="0">
            <a:noFill/>
          </a:ln>
        </p:spPr>
      </p:pic>
      <p:sp>
        <p:nvSpPr>
          <p:cNvPr id="1450" name="矩形 131074"/>
          <p:cNvSpPr/>
          <p:nvPr/>
        </p:nvSpPr>
        <p:spPr>
          <a:xfrm>
            <a:off x="8312040" y="1808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14T01:24:11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